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F7A-4BDF-474D-86DC-B88A4506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2AC-83EE-4670-B040-ADEBFB3B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4EA-2B9D-459D-8FD9-8B3507C5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B4F-48F1-4796-82A8-7B52D40F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2505-8B9B-4334-9AF8-F9A1F582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92E0-4C4A-46D5-AE60-33C1601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0A17-21AE-4870-8B35-FD08BD38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60F9-1EC2-49E7-B9F1-3CD4FB66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49BC-1199-4B2E-8FFE-9D382F59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5BCD-4628-4EB7-ACC6-54AD2483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D5FC-A071-4494-95EF-DE8A6546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F2D-9DF7-41EC-B1E3-B141CA10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35A-F4B0-42F8-B052-397F017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1CA6-B547-428A-89B9-0F83454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4D87-D994-449F-B896-A8D2B21D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75ED-0F21-477B-8379-EAA65D8F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8ED3-708B-4DCC-AEBF-59BDC2B2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799-2DCC-40E4-AB48-3D6FA722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17D-A5F9-4184-9D9C-0E21D4A4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314-916A-411F-A9DA-35372EA8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73B-ECA1-4C40-91A9-6E1C5A0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F20-4486-462B-AC32-C6032D2A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4FD-04A8-4EFA-BAD3-65A48E4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5AC-C896-494F-B9A3-582E039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EB4C-4087-4092-9F78-0525D4D3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366F-DC6D-48EC-ADB9-CAFE1A235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CE98-2188-42C0-A16A-7434A2F8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66680" y="2270160"/>
            <a:ext cx="701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egment Formul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6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19F7-A36C-4D4B-9183-96A683DB7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secting Chords Theorem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6095880" y="3809880"/>
            <a:ext cx="2819520" cy="2514240"/>
            <a:chOff x="6095880" y="3809880"/>
            <a:chExt cx="2819520" cy="2514240"/>
          </a:xfrm>
        </p:grpSpPr>
        <p:grpSp>
          <p:nvGrpSpPr>
            <p:cNvPr id="98" name="Group 14"/>
            <p:cNvGrpSpPr/>
            <p:nvPr/>
          </p:nvGrpSpPr>
          <p:grpSpPr>
            <a:xfrm>
              <a:off x="6095880" y="3809880"/>
              <a:ext cx="2819520" cy="2514240"/>
              <a:chOff x="6095880" y="3809880"/>
              <a:chExt cx="2819520" cy="2514240"/>
            </a:xfrm>
          </p:grpSpPr>
          <p:sp>
            <p:nvSpPr>
              <p:cNvPr id="99" name="Oval 5"/>
              <p:cNvSpPr/>
              <p:nvPr/>
            </p:nvSpPr>
            <p:spPr>
              <a:xfrm>
                <a:off x="6248520" y="3971880"/>
                <a:ext cx="2286000" cy="2352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6705720" y="4215240"/>
                <a:ext cx="1828800" cy="121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 flipH="1">
                <a:off x="6477120" y="4458600"/>
                <a:ext cx="1828800" cy="145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8"/>
              <p:cNvSpPr/>
              <p:nvPr/>
            </p:nvSpPr>
            <p:spPr>
              <a:xfrm>
                <a:off x="64008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9"/>
              <p:cNvSpPr/>
              <p:nvPr/>
            </p:nvSpPr>
            <p:spPr>
              <a:xfrm>
                <a:off x="8534520" y="5188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0"/>
              <p:cNvSpPr/>
              <p:nvPr/>
            </p:nvSpPr>
            <p:spPr>
              <a:xfrm>
                <a:off x="6095880" y="57564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1"/>
              <p:cNvSpPr/>
              <p:nvPr/>
            </p:nvSpPr>
            <p:spPr>
              <a:xfrm>
                <a:off x="8381880" y="41342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Oval 15"/>
            <p:cNvSpPr/>
            <p:nvPr/>
          </p:nvSpPr>
          <p:spPr>
            <a:xfrm>
              <a:off x="6660360" y="4186800"/>
              <a:ext cx="6264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6"/>
            <p:cNvSpPr/>
            <p:nvPr/>
          </p:nvSpPr>
          <p:spPr>
            <a:xfrm>
              <a:off x="7727040" y="4878720"/>
              <a:ext cx="6228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7"/>
            <p:cNvSpPr/>
            <p:nvPr/>
          </p:nvSpPr>
          <p:spPr>
            <a:xfrm>
              <a:off x="8480160" y="5381280"/>
              <a:ext cx="6228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8291880" y="4438440"/>
              <a:ext cx="6228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9"/>
            <p:cNvSpPr/>
            <p:nvPr/>
          </p:nvSpPr>
          <p:spPr>
            <a:xfrm>
              <a:off x="6472080" y="5884200"/>
              <a:ext cx="62640" cy="6264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7602840" y="4878720"/>
              <a:ext cx="2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22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or segments are formed by two intersecting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4920" y="2971800"/>
            <a:ext cx="647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chords intersect within a circle, then the product of the lengths of the parts of one chord is equal to the product of the lengths of the parts of the second ch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701028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8001000" y="4800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7057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6960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1981080" y="5105520"/>
            <a:ext cx="3353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• b = c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• 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304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3BDE-C203-458A-B932-3C68EA44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secting Secants/Tangents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28600" y="1905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ior segments are formed by two secants, or a secant and a tan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609480" y="2895480"/>
            <a:ext cx="3429000" cy="2779920"/>
            <a:chOff x="609480" y="2895480"/>
            <a:chExt cx="3429000" cy="2779920"/>
          </a:xfrm>
        </p:grpSpPr>
        <p:sp>
          <p:nvSpPr>
            <p:cNvPr id="125" name="AutoShape 7"/>
            <p:cNvSpPr/>
            <p:nvPr/>
          </p:nvSpPr>
          <p:spPr>
            <a:xfrm>
              <a:off x="609480" y="2895480"/>
              <a:ext cx="342900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950760" y="3205080"/>
              <a:ext cx="2032200" cy="20322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950400" y="3220920"/>
              <a:ext cx="2697480" cy="9432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 flipH="1">
              <a:off x="1812960" y="3220920"/>
              <a:ext cx="1835280" cy="19828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2"/>
            <p:cNvSpPr/>
            <p:nvPr/>
          </p:nvSpPr>
          <p:spPr>
            <a:xfrm>
              <a:off x="2900520" y="3968640"/>
              <a:ext cx="8244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3070080" y="3919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>
              <a:off x="1925640" y="4179960"/>
              <a:ext cx="8100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5"/>
            <p:cNvSpPr/>
            <p:nvPr/>
          </p:nvSpPr>
          <p:spPr>
            <a:xfrm>
              <a:off x="2673360" y="3513240"/>
              <a:ext cx="8100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2728800" y="32702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3616200" y="3187800"/>
              <a:ext cx="81000" cy="82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3776400" y="3057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919080" y="4130640"/>
              <a:ext cx="8100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826920" y="3919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1"/>
            <p:cNvSpPr/>
            <p:nvPr/>
          </p:nvSpPr>
          <p:spPr>
            <a:xfrm>
              <a:off x="1779480" y="5172120"/>
              <a:ext cx="8100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2"/>
            <p:cNvSpPr/>
            <p:nvPr/>
          </p:nvSpPr>
          <p:spPr>
            <a:xfrm>
              <a:off x="1801440" y="5253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4"/>
          <p:cNvGrpSpPr/>
          <p:nvPr/>
        </p:nvGrpSpPr>
        <p:grpSpPr>
          <a:xfrm>
            <a:off x="4572000" y="2819520"/>
            <a:ext cx="4191120" cy="2584440"/>
            <a:chOff x="4572000" y="2819520"/>
            <a:chExt cx="4191120" cy="2584440"/>
          </a:xfrm>
        </p:grpSpPr>
        <p:sp>
          <p:nvSpPr>
            <p:cNvPr id="141" name="AutoShape 23"/>
            <p:cNvSpPr/>
            <p:nvPr/>
          </p:nvSpPr>
          <p:spPr>
            <a:xfrm>
              <a:off x="4572000" y="2819520"/>
              <a:ext cx="4191120" cy="25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5"/>
            <p:cNvSpPr/>
            <p:nvPr/>
          </p:nvSpPr>
          <p:spPr>
            <a:xfrm>
              <a:off x="4746600" y="3116160"/>
              <a:ext cx="2112840" cy="21132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 flipH="1">
              <a:off x="4885920" y="4513320"/>
              <a:ext cx="3475080" cy="1569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335640" y="3273480"/>
              <a:ext cx="2025720" cy="12398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8"/>
            <p:cNvSpPr/>
            <p:nvPr/>
          </p:nvSpPr>
          <p:spPr>
            <a:xfrm>
              <a:off x="6719760" y="454824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9"/>
            <p:cNvSpPr/>
            <p:nvPr/>
          </p:nvSpPr>
          <p:spPr>
            <a:xfrm>
              <a:off x="6807240" y="46530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0"/>
            <p:cNvSpPr/>
            <p:nvPr/>
          </p:nvSpPr>
          <p:spPr>
            <a:xfrm>
              <a:off x="5759280" y="412920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1"/>
            <p:cNvSpPr/>
            <p:nvPr/>
          </p:nvSpPr>
          <p:spPr>
            <a:xfrm>
              <a:off x="6300720" y="323856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6335640" y="2994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3"/>
            <p:cNvSpPr/>
            <p:nvPr/>
          </p:nvSpPr>
          <p:spPr>
            <a:xfrm>
              <a:off x="4851360" y="4635360"/>
              <a:ext cx="8748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4"/>
            <p:cNvSpPr/>
            <p:nvPr/>
          </p:nvSpPr>
          <p:spPr>
            <a:xfrm>
              <a:off x="4816440" y="472284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8326440" y="447840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6"/>
            <p:cNvSpPr/>
            <p:nvPr/>
          </p:nvSpPr>
          <p:spPr>
            <a:xfrm>
              <a:off x="8483400" y="437364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37"/>
          <p:cNvSpPr/>
          <p:nvPr/>
        </p:nvSpPr>
        <p:spPr>
          <a:xfrm>
            <a:off x="9907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wo Se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48769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ecant and a 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444C-794E-4610-AE73-1B95D69F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secting Secants Theorem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AutoShape 13"/>
          <p:cNvSpPr/>
          <p:nvPr/>
        </p:nvSpPr>
        <p:spPr>
          <a:xfrm rot="13375200">
            <a:off x="2742840" y="3809880"/>
            <a:ext cx="388800" cy="2479680"/>
          </a:xfrm>
          <a:custGeom>
            <a:avLst/>
            <a:gdLst>
              <a:gd name="textAreaLeft" fmla="*/ 248400 w 388800"/>
              <a:gd name="textAreaRight" fmla="*/ 389160 w 388800"/>
              <a:gd name="textAreaTop" fmla="*/ 64440 h 2479680"/>
              <a:gd name="textAreaBottom" fmla="*/ 2415240 h 24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4"/>
          <p:cNvSpPr/>
          <p:nvPr/>
        </p:nvSpPr>
        <p:spPr>
          <a:xfrm rot="4152000">
            <a:off x="1730880" y="2764440"/>
            <a:ext cx="389160" cy="2479680"/>
          </a:xfrm>
          <a:custGeom>
            <a:avLst/>
            <a:gdLst>
              <a:gd name="textAreaLeft" fmla="*/ 248760 w 389160"/>
              <a:gd name="textAreaRight" fmla="*/ 389520 w 389160"/>
              <a:gd name="textAreaTop" fmla="*/ 64440 h 2479680"/>
              <a:gd name="textAreaBottom" fmla="*/ 2415240 h 247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705"/>
                </a:lnTo>
                <a:cubicBezTo>
                  <a:pt x="10800" y="6605"/>
                  <a:pt x="5400" y="7505"/>
                  <a:pt x="0" y="7505"/>
                </a:cubicBezTo>
                <a:cubicBezTo>
                  <a:pt x="5400" y="7505"/>
                  <a:pt x="10800" y="8405"/>
                  <a:pt x="10800" y="93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4419720" y="4038480"/>
            <a:ext cx="2819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• e = c • f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80880" y="18288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ecant segments are drawn to a circle from an external point, then the products of the lengths of the secant and their exterior parts are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5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352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4373-0629-4380-A12B-C8B57FAA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257800" y="19810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 rot="17884800">
            <a:off x="2515680" y="457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9"/>
          <p:cNvGraphicFramePr/>
          <p:nvPr/>
        </p:nvGraphicFramePr>
        <p:xfrm>
          <a:off x="533520" y="1967040"/>
          <a:ext cx="777240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67040"/>
                    <a:ext cx="77724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Group 23"/>
          <p:cNvGrpSpPr/>
          <p:nvPr/>
        </p:nvGrpSpPr>
        <p:grpSpPr>
          <a:xfrm>
            <a:off x="457200" y="2819520"/>
            <a:ext cx="4038480" cy="3273480"/>
            <a:chOff x="457200" y="2819520"/>
            <a:chExt cx="4038480" cy="3273480"/>
          </a:xfrm>
        </p:grpSpPr>
        <p:sp>
          <p:nvSpPr>
            <p:cNvPr id="172" name="AutoShape 22"/>
            <p:cNvSpPr/>
            <p:nvPr/>
          </p:nvSpPr>
          <p:spPr>
            <a:xfrm>
              <a:off x="457200" y="2819520"/>
              <a:ext cx="4038480" cy="32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58960" y="3182760"/>
              <a:ext cx="2392200" cy="239256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 flipH="1">
              <a:off x="858960" y="3201840"/>
              <a:ext cx="3178080" cy="1111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 flipH="1">
              <a:off x="1872720" y="3201840"/>
              <a:ext cx="2163960" cy="2335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3156120" y="4083120"/>
              <a:ext cx="95040" cy="95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3365280" y="40258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2008080" y="4332240"/>
              <a:ext cx="95400" cy="95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2887560" y="3546360"/>
              <a:ext cx="96840" cy="96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2963520" y="3259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3998880" y="3164040"/>
              <a:ext cx="95400" cy="95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3"/>
            <p:cNvSpPr/>
            <p:nvPr/>
          </p:nvSpPr>
          <p:spPr>
            <a:xfrm>
              <a:off x="4189320" y="301140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820800" y="4273560"/>
              <a:ext cx="95040" cy="96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5"/>
            <p:cNvSpPr/>
            <p:nvPr/>
          </p:nvSpPr>
          <p:spPr>
            <a:xfrm>
              <a:off x="725040" y="40258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1835280" y="5499000"/>
              <a:ext cx="95040" cy="95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7"/>
            <p:cNvSpPr/>
            <p:nvPr/>
          </p:nvSpPr>
          <p:spPr>
            <a:xfrm>
              <a:off x="1870200" y="559440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38"/>
          <p:cNvSpPr/>
          <p:nvPr/>
        </p:nvSpPr>
        <p:spPr>
          <a:xfrm rot="20637000">
            <a:off x="1524960" y="35049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 rot="19236000">
            <a:off x="3429720" y="3504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 rot="20667600">
            <a:off x="3048120" y="289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4876920" y="2743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C = A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5029200" y="33526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 =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2+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3"/>
          <p:cNvSpPr/>
          <p:nvPr/>
        </p:nvSpPr>
        <p:spPr>
          <a:xfrm>
            <a:off x="5257800" y="4038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 = 4 +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4"/>
          <p:cNvSpPr/>
          <p:nvPr/>
        </p:nvSpPr>
        <p:spPr>
          <a:xfrm>
            <a:off x="5410080" y="46483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 =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5638680" y="5257800"/>
            <a:ext cx="1752840" cy="52056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18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D03-79C1-4EBE-810C-95A27FB7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ecant and Tangent Theorem:</a:t>
            </a:r>
            <a:endParaRPr b="0" lang="en-US" sz="3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8" name="AutoShape 5"/>
          <p:cNvSpPr/>
          <p:nvPr/>
        </p:nvSpPr>
        <p:spPr>
          <a:xfrm rot="16070400">
            <a:off x="2624760" y="3996360"/>
            <a:ext cx="388800" cy="3352680"/>
          </a:xfrm>
          <a:custGeom>
            <a:avLst/>
            <a:gdLst>
              <a:gd name="textAreaLeft" fmla="*/ 248400 w 388800"/>
              <a:gd name="textAreaRight" fmla="*/ 389160 w 3888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581280" y="4191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352680" y="4800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029200" y="39625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b •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5909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0492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quare of the length of the tangent equals the product of the length of the secant and its exterior seg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3"/>
          <p:cNvGrpSpPr/>
          <p:nvPr/>
        </p:nvGrpSpPr>
        <p:grpSpPr>
          <a:xfrm>
            <a:off x="762120" y="3505320"/>
            <a:ext cx="4190760" cy="2584440"/>
            <a:chOff x="762120" y="3505320"/>
            <a:chExt cx="4190760" cy="2584440"/>
          </a:xfrm>
        </p:grpSpPr>
        <p:sp>
          <p:nvSpPr>
            <p:cNvPr id="206" name="AutoShape 12"/>
            <p:cNvSpPr/>
            <p:nvPr/>
          </p:nvSpPr>
          <p:spPr>
            <a:xfrm>
              <a:off x="762120" y="3505320"/>
              <a:ext cx="4190760" cy="25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936360" y="3802320"/>
              <a:ext cx="2112480" cy="211284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1076040" y="5199120"/>
              <a:ext cx="3474720" cy="1573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6"/>
            <p:cNvSpPr/>
            <p:nvPr/>
          </p:nvSpPr>
          <p:spPr>
            <a:xfrm>
              <a:off x="2525400" y="3959280"/>
              <a:ext cx="2025360" cy="12398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2909520" y="523404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"/>
            <p:cNvSpPr/>
            <p:nvPr/>
          </p:nvSpPr>
          <p:spPr>
            <a:xfrm>
              <a:off x="2927160" y="53388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9"/>
            <p:cNvSpPr/>
            <p:nvPr/>
          </p:nvSpPr>
          <p:spPr>
            <a:xfrm>
              <a:off x="1949040" y="481500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2490480" y="392436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1"/>
            <p:cNvSpPr/>
            <p:nvPr/>
          </p:nvSpPr>
          <p:spPr>
            <a:xfrm>
              <a:off x="2455560" y="36799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1041120" y="5321520"/>
              <a:ext cx="871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3"/>
            <p:cNvSpPr/>
            <p:nvPr/>
          </p:nvSpPr>
          <p:spPr>
            <a:xfrm>
              <a:off x="936360" y="540864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4516200" y="516420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5"/>
            <p:cNvSpPr/>
            <p:nvPr/>
          </p:nvSpPr>
          <p:spPr>
            <a:xfrm>
              <a:off x="4620960" y="505944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6: Seg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D25D-1AE9-45E5-B246-8C55720A1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22" name="Object 27"/>
          <p:cNvGraphicFramePr/>
          <p:nvPr/>
        </p:nvGraphicFramePr>
        <p:xfrm>
          <a:off x="304920" y="1905120"/>
          <a:ext cx="853416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53416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5"/>
          <p:cNvSpPr/>
          <p:nvPr/>
        </p:nvSpPr>
        <p:spPr>
          <a:xfrm>
            <a:off x="32767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4"/>
          <p:cNvGrpSpPr/>
          <p:nvPr/>
        </p:nvGrpSpPr>
        <p:grpSpPr>
          <a:xfrm>
            <a:off x="457200" y="3429000"/>
            <a:ext cx="4060800" cy="2387520"/>
            <a:chOff x="457200" y="3429000"/>
            <a:chExt cx="4060800" cy="2387520"/>
          </a:xfrm>
        </p:grpSpPr>
        <p:sp>
          <p:nvSpPr>
            <p:cNvPr id="226" name="AutoShape 13"/>
            <p:cNvSpPr/>
            <p:nvPr/>
          </p:nvSpPr>
          <p:spPr>
            <a:xfrm>
              <a:off x="457200" y="3429000"/>
              <a:ext cx="4060800" cy="23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5"/>
            <p:cNvSpPr/>
            <p:nvPr/>
          </p:nvSpPr>
          <p:spPr>
            <a:xfrm>
              <a:off x="626760" y="3703680"/>
              <a:ext cx="2046600" cy="195084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 flipH="1">
              <a:off x="761400" y="4994280"/>
              <a:ext cx="3367080" cy="14436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2165040" y="3848040"/>
              <a:ext cx="1963800" cy="11462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8"/>
            <p:cNvSpPr/>
            <p:nvPr/>
          </p:nvSpPr>
          <p:spPr>
            <a:xfrm>
              <a:off x="2538360" y="5025960"/>
              <a:ext cx="8388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9"/>
            <p:cNvSpPr/>
            <p:nvPr/>
          </p:nvSpPr>
          <p:spPr>
            <a:xfrm>
              <a:off x="2555640" y="5122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0"/>
            <p:cNvSpPr/>
            <p:nvPr/>
          </p:nvSpPr>
          <p:spPr>
            <a:xfrm>
              <a:off x="1608120" y="4638600"/>
              <a:ext cx="8388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1"/>
            <p:cNvSpPr/>
            <p:nvPr/>
          </p:nvSpPr>
          <p:spPr>
            <a:xfrm>
              <a:off x="2131920" y="3816360"/>
              <a:ext cx="8424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2098440" y="3591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3"/>
            <p:cNvSpPr/>
            <p:nvPr/>
          </p:nvSpPr>
          <p:spPr>
            <a:xfrm>
              <a:off x="728640" y="5106960"/>
              <a:ext cx="8388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626760" y="518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5"/>
            <p:cNvSpPr/>
            <p:nvPr/>
          </p:nvSpPr>
          <p:spPr>
            <a:xfrm>
              <a:off x="4095720" y="4960800"/>
              <a:ext cx="83880" cy="81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6"/>
            <p:cNvSpPr/>
            <p:nvPr/>
          </p:nvSpPr>
          <p:spPr>
            <a:xfrm>
              <a:off x="4195440" y="4863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9"/>
          <p:cNvSpPr/>
          <p:nvPr/>
        </p:nvSpPr>
        <p:spPr>
          <a:xfrm>
            <a:off x="29718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205740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2"/>
          <p:cNvSpPr/>
          <p:nvPr/>
        </p:nvSpPr>
        <p:spPr>
          <a:xfrm flipH="1" rot="16034400">
            <a:off x="2151720" y="3786120"/>
            <a:ext cx="718920" cy="3202200"/>
          </a:xfrm>
          <a:custGeom>
            <a:avLst/>
            <a:gdLst>
              <a:gd name="textAreaLeft" fmla="*/ 0 w 718920"/>
              <a:gd name="textAreaRight" fmla="*/ 259560 w 718920"/>
              <a:gd name="textAreaTop" fmla="*/ 83520 h 3202200"/>
              <a:gd name="textAreaBottom" fmla="*/ 3118680 h 320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33"/>
          <p:cNvGraphicFramePr/>
          <p:nvPr/>
        </p:nvGraphicFramePr>
        <p:xfrm>
          <a:off x="4724280" y="3200400"/>
          <a:ext cx="377208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0400"/>
                    <a:ext cx="37720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6:18:57Z</dcterms:created>
  <dc:creator>Administrator</dc:creator>
  <dc:description/>
  <dc:language>en-US</dc:language>
  <cp:lastModifiedBy>chmorgan</cp:lastModifiedBy>
  <dcterms:modified xsi:type="dcterms:W3CDTF">2013-04-09T19:20:38Z</dcterms:modified>
  <cp:revision>23</cp:revision>
  <dc:subject/>
  <dc:title>8-6 Segments in Circles</dc:title>
</cp:coreProperties>
</file>